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9.png" ContentType="image/png"/>
  <Override PartName="/ppt/media/image65.jpeg" ContentType="image/jpeg"/>
  <Override PartName="/ppt/media/image48.jpeg" ContentType="image/jpeg"/>
  <Override PartName="/ppt/media/image47.jpeg" ContentType="image/jpeg"/>
  <Override PartName="/ppt/media/image45.jpeg" ContentType="image/jpeg"/>
  <Override PartName="/ppt/media/image44.jpeg" ContentType="image/jpeg"/>
  <Override PartName="/ppt/media/image60.wmf" ContentType="image/x-wmf"/>
  <Override PartName="/ppt/media/image37.png" ContentType="image/png"/>
  <Override PartName="/ppt/media/image34.jpeg" ContentType="image/jpeg"/>
  <Override PartName="/ppt/media/image33.gif" ContentType="image/gif"/>
  <Override PartName="/ppt/media/image9.jpeg" ContentType="image/jpeg"/>
  <Override PartName="/ppt/media/image32.jpeg" ContentType="image/jpeg"/>
  <Override PartName="/ppt/media/image31.jpeg" ContentType="image/jpeg"/>
  <Override PartName="/ppt/media/image68.gif" ContentType="image/gif"/>
  <Override PartName="/ppt/media/image30.jpeg" ContentType="image/jpeg"/>
  <Override PartName="/ppt/media/image55.jpeg" ContentType="image/jpeg"/>
  <Override PartName="/ppt/media/image76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80.jpeg" ContentType="image/jpeg"/>
  <Override PartName="/ppt/media/image64.gif" ContentType="image/gif"/>
  <Override PartName="/ppt/media/image2.jpeg" ContentType="image/jpeg"/>
  <Override PartName="/ppt/media/image36.jpeg" ContentType="image/jpeg"/>
  <Override PartName="/ppt/media/image61.wmf" ContentType="image/x-wmf"/>
  <Override PartName="/ppt/media/image66.jpeg" ContentType="image/jpeg"/>
  <Override PartName="/ppt/media/image41.jpeg" ContentType="image/jpeg"/>
  <Override PartName="/ppt/media/image14.jpeg" ContentType="image/jpeg"/>
  <Override PartName="/ppt/media/image82.jpeg" ContentType="image/jpeg"/>
  <Override PartName="/ppt/media/image73.wmf" ContentType="image/x-wmf"/>
  <Override PartName="/ppt/media/image71.jpeg" ContentType="image/jpeg"/>
  <Override PartName="/ppt/media/image20.jpeg" ContentType="image/jpeg"/>
  <Override PartName="/ppt/media/image15.jpeg" ContentType="image/jpeg"/>
  <Override PartName="/ppt/media/image69.png" ContentType="image/png"/>
  <Override PartName="/ppt/media/image26.wmf" ContentType="image/x-wmf"/>
  <Override PartName="/ppt/media/image78.jpeg" ContentType="image/jpeg"/>
  <Override PartName="/ppt/media/image77.jpeg" ContentType="image/jpeg"/>
  <Override PartName="/ppt/media/image16.jpeg" ContentType="image/jpeg"/>
  <Override PartName="/ppt/media/image85.jpeg" ContentType="image/jpeg"/>
  <Override PartName="/ppt/media/image84.png" ContentType="image/png"/>
  <Override PartName="/ppt/media/image79.jpeg" ContentType="image/jpeg"/>
  <Override PartName="/ppt/media/image74.wmf" ContentType="image/x-wmf"/>
  <Override PartName="/ppt/media/image70.jpeg" ContentType="image/jpeg"/>
  <Override PartName="/ppt/media/image75.wmf" ContentType="image/x-wmf"/>
  <Override PartName="/ppt/media/image43.jpeg" ContentType="image/jpeg"/>
  <Override PartName="/ppt/media/image72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62.wmf" ContentType="image/x-wmf"/>
  <Override PartName="/ppt/media/image3.jpeg" ContentType="image/jpeg"/>
  <Override PartName="/ppt/media/image4.jpeg" ContentType="image/jpeg"/>
  <Override PartName="/ppt/media/image50.jpeg" ContentType="image/jpeg"/>
  <Override PartName="/ppt/media/image6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67.gif" ContentType="image/gif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65DF-68A6-44E5-9C07-82523AA924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3B81-0C08-418A-9027-F26B885D7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ить из Эрмитажа дам или муж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0A9-8EC6-46AA-B5F4-3878474E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D81-1D6E-423F-92B6-D8AC8E83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D1A-39A0-413F-B163-113EEAA7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D0F-7A17-46C5-B590-4E6C5BB9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48D-1AB9-497D-9301-59B36BC3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17B-FAA9-4DFF-8124-D9697841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70A-6D3F-420F-A98F-E9A57212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287-6A8B-4FB4-9747-8FA1BC14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EAC-D401-4A7F-9781-39725E11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CEA-10AD-4EA5-9709-AB2BF929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BF8-D132-448C-A428-B9A028EE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953-381C-4106-8BBF-661ED032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5345-B2E6-4428-A7DB-5DF330D446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png"/><Relationship Id="rId4" Type="http://schemas.openxmlformats.org/officeDocument/2006/relationships/image" Target="../media/image57.jpeg"/><Relationship Id="rId5" Type="http://schemas.openxmlformats.org/officeDocument/2006/relationships/image" Target="../media/image58.png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png"/><Relationship Id="rId5" Type="http://schemas.openxmlformats.org/officeDocument/2006/relationships/image" Target="../media/image64.gif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8.jpeg"/><Relationship Id="rId3" Type="http://schemas.openxmlformats.org/officeDocument/2006/relationships/image" Target="../media/image66.jpeg"/><Relationship Id="rId4" Type="http://schemas.openxmlformats.org/officeDocument/2006/relationships/image" Target="../media/image67.gif"/><Relationship Id="rId5" Type="http://schemas.openxmlformats.org/officeDocument/2006/relationships/image" Target="../media/image68.gif"/><Relationship Id="rId6" Type="http://schemas.openxmlformats.org/officeDocument/2006/relationships/image" Target="../media/image69.png"/><Relationship Id="rId7" Type="http://schemas.openxmlformats.org/officeDocument/2006/relationships/image" Target="../media/image70.jpe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6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image" Target="../media/image42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pn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jpeg"/><Relationship Id="rId11" Type="http://schemas.openxmlformats.org/officeDocument/2006/relationships/image" Target="../media/image53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 rot="328800">
            <a:off x="755280" y="333000"/>
            <a:ext cx="7131240" cy="456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477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10000"/>
                </a:gradFill>
                <a:latin typeface="Impact"/>
              </a:rPr>
              <a:t>Химия 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1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10000"/>
                </a:gradFill>
                <a:latin typeface="Impact"/>
              </a:rPr>
              <a:t>вокруг  нас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10000"/>
              </a:gradFill>
              <a:latin typeface="Impact"/>
              <a:ea typeface="Impact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685800" y="304920"/>
            <a:ext cx="74674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рылатая химия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8" name="Picture 3" descr="самолет"/>
          <p:cNvPicPr/>
          <p:nvPr/>
        </p:nvPicPr>
        <p:blipFill>
          <a:blip r:embed="rId1"/>
          <a:stretch/>
        </p:blipFill>
        <p:spPr>
          <a:xfrm>
            <a:off x="6516720" y="1341360"/>
            <a:ext cx="2395440" cy="1797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самолет6"/>
          <p:cNvPicPr/>
          <p:nvPr/>
        </p:nvPicPr>
        <p:blipFill>
          <a:blip r:embed="rId2"/>
          <a:stretch/>
        </p:blipFill>
        <p:spPr>
          <a:xfrm>
            <a:off x="5651640" y="3357720"/>
            <a:ext cx="2539800" cy="1600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летающая тар2"/>
          <p:cNvPicPr/>
          <p:nvPr/>
        </p:nvPicPr>
        <p:blipFill>
          <a:blip r:embed="rId3"/>
          <a:stretch/>
        </p:blipFill>
        <p:spPr>
          <a:xfrm>
            <a:off x="250920" y="4869000"/>
            <a:ext cx="2514600" cy="17427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1346040" y="265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2" name="Picture 9" descr="самолет4"/>
          <p:cNvPicPr/>
          <p:nvPr/>
        </p:nvPicPr>
        <p:blipFill>
          <a:blip r:embed="rId4"/>
          <a:stretch/>
        </p:blipFill>
        <p:spPr>
          <a:xfrm>
            <a:off x="3924360" y="5084640"/>
            <a:ext cx="2311200" cy="15494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0"/>
          <p:cNvSpPr/>
          <p:nvPr/>
        </p:nvSpPr>
        <p:spPr>
          <a:xfrm flipH="1">
            <a:off x="755640" y="1413000"/>
            <a:ext cx="4572000" cy="2625480"/>
          </a:xfrm>
          <a:prstGeom prst="wedgeRoundRectCallout">
            <a:avLst>
              <a:gd name="adj1" fmla="val -43518"/>
              <a:gd name="adj2" fmla="val 962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WordArt 11"/>
          <p:cNvSpPr txBox="1"/>
          <p:nvPr/>
        </p:nvSpPr>
        <p:spPr>
          <a:xfrm>
            <a:off x="826920" y="1700280"/>
            <a:ext cx="3124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люмини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5" name="WordArt 12"/>
          <p:cNvSpPr txBox="1"/>
          <p:nvPr/>
        </p:nvSpPr>
        <p:spPr>
          <a:xfrm>
            <a:off x="2987640" y="2276640"/>
            <a:ext cx="213372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титан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13"/>
          <p:cNvSpPr txBox="1"/>
          <p:nvPr/>
        </p:nvSpPr>
        <p:spPr>
          <a:xfrm>
            <a:off x="900000" y="2708280"/>
            <a:ext cx="205272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1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магний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755640" y="1484280"/>
            <a:ext cx="7705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Monotype Corsiva"/>
              </a:rPr>
              <a:t>ХИМИЮ НУЖНО 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Monotype Corsiva"/>
              </a:rPr>
              <a:t>ЗНАТЬ!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out" orient="ver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Место химии среди других наук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Хим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на из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тественных нау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о есть наук, изучающих объекты и явления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ое название этих наук –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стествозн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естественным наукам относя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физика, химия, биология, физическая география, астроном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некоторые другие нау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3"/>
          <p:cNvSpPr txBox="1"/>
          <p:nvPr/>
        </p:nvSpPr>
        <p:spPr>
          <a:xfrm>
            <a:off x="1187280" y="692280"/>
            <a:ext cx="685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ИОЛОГИЯ                 ГЕОЛОГИЯ</a:t>
            </a:r>
            <a:endParaRPr b="0" lang="en-US" sz="4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2268360" y="4941720"/>
            <a:ext cx="43196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ИКА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3995640" y="3429000"/>
            <a:ext cx="932040" cy="1066680"/>
          </a:xfrm>
          <a:prstGeom prst="upArrow">
            <a:avLst>
              <a:gd name="adj1" fmla="val 50000"/>
              <a:gd name="adj2" fmla="val 28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2195640" y="1844640"/>
            <a:ext cx="4608360" cy="1513080"/>
          </a:xfrm>
          <a:prstGeom prst="horizont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2627280" y="2133720"/>
            <a:ext cx="37879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Я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AutoShape 8"/>
          <p:cNvSpPr/>
          <p:nvPr/>
        </p:nvSpPr>
        <p:spPr>
          <a:xfrm rot="12868800">
            <a:off x="6948000" y="1340640"/>
            <a:ext cx="685800" cy="1295640"/>
          </a:xfrm>
          <a:custGeom>
            <a:avLst/>
            <a:gdLst>
              <a:gd name="textAreaLeft" fmla="*/ 91800 w 685800"/>
              <a:gd name="textAreaRight" fmla="*/ 594000 w 68580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AutoShape 9"/>
          <p:cNvSpPr/>
          <p:nvPr/>
        </p:nvSpPr>
        <p:spPr>
          <a:xfrm flipH="1" rot="8731200">
            <a:off x="1402200" y="1267920"/>
            <a:ext cx="685440" cy="1295640"/>
          </a:xfrm>
          <a:custGeom>
            <a:avLst/>
            <a:gdLst>
              <a:gd name="textAreaLeft" fmla="*/ 91800 w 685440"/>
              <a:gd name="textAreaRight" fmla="*/ 593640 w 68544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out" orient="vert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395280" y="333360"/>
            <a:ext cx="5545080" cy="26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Harlow Solid Italic"/>
              </a:rPr>
              <a:t>" Химик без знания физики подобен человеку,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Harlow Solid Italic"/>
              </a:rPr>
              <a:t>который всего искать должен ощупом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Harlow Solid Italic"/>
              </a:rPr>
              <a:t>И сии две науки так соединены между собою,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Harlow Solid Italic"/>
              </a:rPr>
              <a:t>что одна без другой в совершенстве быть не могут"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88" name="Picture 5" descr="lomonosov02"/>
          <p:cNvPicPr/>
          <p:nvPr/>
        </p:nvPicPr>
        <p:blipFill>
          <a:blip r:embed="rId1"/>
          <a:stretch/>
        </p:blipFill>
        <p:spPr>
          <a:xfrm>
            <a:off x="5580000" y="2133720"/>
            <a:ext cx="3286080" cy="38163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6"/>
          <p:cNvSpPr/>
          <p:nvPr/>
        </p:nvSpPr>
        <p:spPr>
          <a:xfrm>
            <a:off x="5081040" y="6021360"/>
            <a:ext cx="39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Михаил Васильевич Ломоносов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(1711 – 1765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out" orient="ver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79280" y="198900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311c"/>
                </a:solidFill>
                <a:latin typeface="Arial"/>
              </a:rPr>
              <a:t>Физические те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любые предметы, имеющие форму и объем.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332000" y="4762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Физические тела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2" name="Picture 7" descr="Рисунок2"/>
          <p:cNvPicPr/>
          <p:nvPr/>
        </p:nvPicPr>
        <p:blipFill>
          <a:blip r:embed="rId1"/>
          <a:stretch/>
        </p:blipFill>
        <p:spPr>
          <a:xfrm>
            <a:off x="5364000" y="2349360"/>
            <a:ext cx="1944720" cy="1719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j0426054"/>
          <p:cNvPicPr/>
          <p:nvPr/>
        </p:nvPicPr>
        <p:blipFill>
          <a:blip r:embed="rId2"/>
          <a:stretch/>
        </p:blipFill>
        <p:spPr>
          <a:xfrm>
            <a:off x="324000" y="4869000"/>
            <a:ext cx="1841400" cy="1606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j0412400"/>
          <p:cNvPicPr/>
          <p:nvPr/>
        </p:nvPicPr>
        <p:blipFill>
          <a:blip r:embed="rId3"/>
          <a:stretch/>
        </p:blipFill>
        <p:spPr>
          <a:xfrm>
            <a:off x="6516720" y="4292640"/>
            <a:ext cx="1998720" cy="2198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j0433896"/>
          <p:cNvPicPr/>
          <p:nvPr/>
        </p:nvPicPr>
        <p:blipFill>
          <a:blip r:embed="rId4"/>
          <a:stretch/>
        </p:blipFill>
        <p:spPr>
          <a:xfrm>
            <a:off x="3995640" y="465300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шшш"/>
          <p:cNvPicPr/>
          <p:nvPr/>
        </p:nvPicPr>
        <p:blipFill>
          <a:blip r:embed="rId5"/>
          <a:stretch/>
        </p:blipFill>
        <p:spPr>
          <a:xfrm>
            <a:off x="6516720" y="260280"/>
            <a:ext cx="1876320" cy="1695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щ"/>
          <p:cNvPicPr/>
          <p:nvPr/>
        </p:nvPicPr>
        <p:blipFill>
          <a:blip r:embed="rId6"/>
          <a:stretch/>
        </p:blipFill>
        <p:spPr>
          <a:xfrm>
            <a:off x="2195640" y="3284640"/>
            <a:ext cx="1384200" cy="1434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3132000" y="260280"/>
            <a:ext cx="273528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тела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199" name="Line 3"/>
          <p:cNvSpPr/>
          <p:nvPr/>
        </p:nvSpPr>
        <p:spPr>
          <a:xfrm flipH="1">
            <a:off x="1676160" y="981000"/>
            <a:ext cx="2103480" cy="847800"/>
          </a:xfrm>
          <a:prstGeom prst="line">
            <a:avLst/>
          </a:prstGeom>
          <a:ln w="95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5076720" y="981000"/>
            <a:ext cx="2087640" cy="863640"/>
          </a:xfrm>
          <a:prstGeom prst="line">
            <a:avLst/>
          </a:prstGeom>
          <a:ln w="95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85800" y="1905120"/>
            <a:ext cx="25909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5435640" y="1916280"/>
            <a:ext cx="27432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5715000" y="1905120"/>
            <a:ext cx="19144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c311c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неживые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c311c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WordArt 8"/>
          <p:cNvSpPr txBox="1"/>
          <p:nvPr/>
        </p:nvSpPr>
        <p:spPr>
          <a:xfrm>
            <a:off x="1187280" y="1916280"/>
            <a:ext cx="1400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c311c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живые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c311c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5" name="Picture 11" descr="арбуз"/>
          <p:cNvPicPr/>
          <p:nvPr/>
        </p:nvPicPr>
        <p:blipFill>
          <a:blip r:embed="rId1"/>
          <a:stretch/>
        </p:blipFill>
        <p:spPr>
          <a:xfrm>
            <a:off x="250920" y="4724280"/>
            <a:ext cx="1871640" cy="1863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проектор"/>
          <p:cNvPicPr/>
          <p:nvPr/>
        </p:nvPicPr>
        <p:blipFill>
          <a:blip r:embed="rId2"/>
          <a:stretch/>
        </p:blipFill>
        <p:spPr>
          <a:xfrm>
            <a:off x="6732720" y="2924280"/>
            <a:ext cx="1944720" cy="1490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перец"/>
          <p:cNvPicPr/>
          <p:nvPr/>
        </p:nvPicPr>
        <p:blipFill>
          <a:blip r:embed="rId3"/>
          <a:stretch/>
        </p:blipFill>
        <p:spPr>
          <a:xfrm>
            <a:off x="2268360" y="299736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рлд"/>
          <p:cNvPicPr/>
          <p:nvPr/>
        </p:nvPicPr>
        <p:blipFill>
          <a:blip r:embed="rId4"/>
          <a:stretch/>
        </p:blipFill>
        <p:spPr>
          <a:xfrm rot="10800000">
            <a:off x="252360" y="2924280"/>
            <a:ext cx="1595520" cy="1611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Рисунок8"/>
          <p:cNvPicPr/>
          <p:nvPr/>
        </p:nvPicPr>
        <p:blipFill>
          <a:blip r:embed="rId5"/>
          <a:stretch/>
        </p:blipFill>
        <p:spPr>
          <a:xfrm>
            <a:off x="2700360" y="4724280"/>
            <a:ext cx="1604880" cy="1854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1" descr="j0433830"/>
          <p:cNvPicPr/>
          <p:nvPr/>
        </p:nvPicPr>
        <p:blipFill>
          <a:blip r:embed="rId6"/>
          <a:stretch/>
        </p:blipFill>
        <p:spPr>
          <a:xfrm>
            <a:off x="4788000" y="2997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2" descr="PH01046J"/>
          <p:cNvPicPr/>
          <p:nvPr/>
        </p:nvPicPr>
        <p:blipFill>
          <a:blip r:embed="rId7"/>
          <a:stretch/>
        </p:blipFill>
        <p:spPr>
          <a:xfrm>
            <a:off x="7524720" y="4581360"/>
            <a:ext cx="1368360" cy="201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легковой автомобиль"/>
          <p:cNvPicPr/>
          <p:nvPr/>
        </p:nvPicPr>
        <p:blipFill>
          <a:blip r:embed="rId8"/>
          <a:stretch/>
        </p:blipFill>
        <p:spPr>
          <a:xfrm>
            <a:off x="4859280" y="5013360"/>
            <a:ext cx="2232000" cy="1339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000"/>
                            </p:stCondLst>
                            <p:childTnLst>
                              <p:par>
                                <p:cTn id="7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4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500"/>
                            </p:stCondLst>
                            <p:childTnLst>
                              <p:par>
                                <p:cTn id="7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611280" y="620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311c"/>
                </a:solidFill>
                <a:latin typeface="Arial"/>
              </a:rPr>
              <a:t>Веществ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, из чего состоят  физические тела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14" name="Picture 7" descr="L43"/>
          <p:cNvPicPr/>
          <p:nvPr/>
        </p:nvPicPr>
        <p:blipFill>
          <a:blip r:embed="rId1"/>
          <a:stretch/>
        </p:blipFill>
        <p:spPr>
          <a:xfrm>
            <a:off x="5148360" y="321300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L46"/>
          <p:cNvPicPr/>
          <p:nvPr/>
        </p:nvPicPr>
        <p:blipFill>
          <a:blip r:embed="rId2"/>
          <a:stretch/>
        </p:blipFill>
        <p:spPr>
          <a:xfrm>
            <a:off x="684360" y="2205000"/>
            <a:ext cx="302400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692360" y="549360"/>
            <a:ext cx="6192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908000" y="40464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адание № 1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18" name="Picture 6" descr="Рисунок3"/>
          <p:cNvPicPr/>
          <p:nvPr/>
        </p:nvPicPr>
        <p:blipFill>
          <a:blip r:embed="rId1"/>
          <a:stretch/>
        </p:blipFill>
        <p:spPr>
          <a:xfrm>
            <a:off x="395280" y="2133720"/>
            <a:ext cx="1595520" cy="36003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539640" y="10526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Из приведённого перечня выпишите отдельно названия тел и веществ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2050920" y="2781360"/>
            <a:ext cx="6912000" cy="3529080"/>
          </a:xfrm>
          <a:prstGeom prst="cloudCallout">
            <a:avLst>
              <a:gd name="adj1" fmla="val -53583"/>
              <a:gd name="adj2" fmla="val -61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ирпич, поваренная соль, мел, железная кнопка, вода, сахар, проволока, свеча, химический стакан, стеклянная воронка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476360" y="404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Тела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5867280" y="404640"/>
            <a:ext cx="22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Вещества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468360" y="1557360"/>
            <a:ext cx="331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95280" y="1484280"/>
            <a:ext cx="3960720" cy="265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ирпич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железная кнопк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оволок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веча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имический стакан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еклянная воронк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364000" y="1557360"/>
            <a:ext cx="3384720" cy="180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варенная соль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л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да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хар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26" name="Picture 11" descr="Рисунок1"/>
          <p:cNvPicPr/>
          <p:nvPr/>
        </p:nvPicPr>
        <p:blipFill>
          <a:blip r:embed="rId1"/>
          <a:stretch/>
        </p:blipFill>
        <p:spPr>
          <a:xfrm>
            <a:off x="6084720" y="3645000"/>
            <a:ext cx="13654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 flipH="1">
            <a:off x="4114080" y="2362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5292720" y="1628640"/>
            <a:ext cx="24750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одежда</a:t>
            </a:r>
            <a:endParaRPr b="0" lang="en-US" sz="4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611280" y="1916280"/>
            <a:ext cx="2819160" cy="43052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/>
          <p:cNvSpPr/>
          <p:nvPr/>
        </p:nvSpPr>
        <p:spPr>
          <a:xfrm>
            <a:off x="4859280" y="333360"/>
            <a:ext cx="3025800" cy="14479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100000">
                <a:srgbClr val="270027"/>
              </a:gs>
            </a:gsLst>
            <a:lin ang="27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250920" y="260280"/>
            <a:ext cx="4572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Impact"/>
              </a:rPr>
              <a:t>тело надо одевать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54" name="WordArt 7"/>
          <p:cNvSpPr txBox="1"/>
          <p:nvPr/>
        </p:nvSpPr>
        <p:spPr>
          <a:xfrm>
            <a:off x="6732720" y="2924280"/>
            <a:ext cx="1447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раск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4427640" y="4292640"/>
            <a:ext cx="411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аксессуар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564000" y="1844640"/>
            <a:ext cx="1257120" cy="1944720"/>
          </a:xfrm>
          <a:custGeom>
            <a:avLst/>
            <a:gdLst>
              <a:gd name="textAreaLeft" fmla="*/ 168120 w 1257120"/>
              <a:gd name="textAreaRight" fmla="*/ 1089000 w 1257120"/>
              <a:gd name="textAreaTop" fmla="*/ 340200 h 1944720"/>
              <a:gd name="textAreaBottom" fmla="*/ 14101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WordArt 10"/>
          <p:cNvSpPr txBox="1"/>
          <p:nvPr/>
        </p:nvSpPr>
        <p:spPr>
          <a:xfrm>
            <a:off x="4859280" y="2997360"/>
            <a:ext cx="14479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ка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8" name="AutoShape 11"/>
          <p:cNvSpPr/>
          <p:nvPr/>
        </p:nvSpPr>
        <p:spPr>
          <a:xfrm rot="21195600">
            <a:off x="8172360" y="1706040"/>
            <a:ext cx="792360" cy="2016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302400 h 2016360"/>
              <a:gd name="textAreaBottom" fmla="*/ 171396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480" stAng="-5400000" swAng="5400000"/>
                <a:lnTo>
                  <a:pt x="21600" y="15120"/>
                </a:lnTo>
                <a:arcTo wR="21600" hR="6480" stAng="0" swAng="2418933"/>
                <a:lnTo>
                  <a:pt x="7200" y="21229"/>
                </a:lnTo>
                <a:lnTo>
                  <a:pt x="0" y="17280"/>
                </a:lnTo>
                <a:lnTo>
                  <a:pt x="7200" y="12589"/>
                </a:lnTo>
                <a:lnTo>
                  <a:pt x="7200" y="12589"/>
                </a:lnTo>
                <a:arcTo wR="21600" hR="6480" stAng="2418933" swAng="-1517717"/>
                <a:lnTo>
                  <a:pt x="16100" y="10800"/>
                </a:lnTo>
                <a:arcTo wR="21600" hR="6480" stAng="-901215" swAng="-4498785"/>
                <a:close/>
              </a:path>
              <a:path fill="darkenLess" w="21600" h="21600">
                <a:moveTo>
                  <a:pt x="0" y="0"/>
                </a:moveTo>
                <a:arcTo wR="21600" hR="6480" stAng="-5400000" swAng="5400000"/>
                <a:lnTo>
                  <a:pt x="21600" y="15120"/>
                </a:lnTo>
                <a:arcTo wR="21600" hR="6480" stAng="0" swAng="-901215"/>
                <a:lnTo>
                  <a:pt x="16100" y="10800"/>
                </a:lnTo>
                <a:arcTo wR="21600" hR="6480" stAng="-901215" swAng="-4498785"/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WordArt 12"/>
          <p:cNvSpPr txBox="1"/>
          <p:nvPr/>
        </p:nvSpPr>
        <p:spPr>
          <a:xfrm>
            <a:off x="3564000" y="5805360"/>
            <a:ext cx="27129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8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стмасс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9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WordArt 13"/>
          <p:cNvSpPr txBox="1"/>
          <p:nvPr/>
        </p:nvSpPr>
        <p:spPr>
          <a:xfrm>
            <a:off x="6948360" y="5791320"/>
            <a:ext cx="18907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6264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алл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d6264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4932360" y="4941720"/>
            <a:ext cx="457200" cy="762120"/>
          </a:xfrm>
          <a:prstGeom prst="line">
            <a:avLst/>
          </a:prstGeom>
          <a:ln w="57240">
            <a:solidFill>
              <a:srgbClr val="5fef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7667640" y="5013360"/>
            <a:ext cx="457200" cy="762120"/>
          </a:xfrm>
          <a:prstGeom prst="line">
            <a:avLst/>
          </a:prstGeom>
          <a:ln w="57240">
            <a:solidFill>
              <a:srgbClr val="5fef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523880" y="1171800"/>
            <a:ext cx="5644800" cy="293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ивидуальное вещество имеет свой собственный набор свой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Свойства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 rot="10800000">
            <a:off x="1042560" y="1412640"/>
            <a:ext cx="2592360" cy="792000"/>
          </a:xfrm>
          <a:prstGeom prst="wedgeRectCallout">
            <a:avLst>
              <a:gd name="adj1" fmla="val -50675"/>
              <a:gd name="adj2" fmla="val 83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физические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0" name="AutoShape 8"/>
          <p:cNvSpPr/>
          <p:nvPr/>
        </p:nvSpPr>
        <p:spPr>
          <a:xfrm rot="10800000">
            <a:off x="5292720" y="1412640"/>
            <a:ext cx="2951280" cy="792000"/>
          </a:xfrm>
          <a:prstGeom prst="wedgeRectCallout">
            <a:avLst>
              <a:gd name="adj1" fmla="val 35958"/>
              <a:gd name="adj2" fmla="val 83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химические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250920" y="2205000"/>
            <a:ext cx="4249800" cy="4437000"/>
          </a:xfrm>
          <a:prstGeom prst="upArrowCallout">
            <a:avLst>
              <a:gd name="adj1" fmla="val 50005"/>
              <a:gd name="adj2" fmla="val 25000"/>
              <a:gd name="adj3" fmla="val 23534"/>
              <a:gd name="adj4" fmla="val 450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вет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ах,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регатное состояние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отность,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мпература плавления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мпература кипения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лектро- и теплопроводность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язкость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отность,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творимость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4643280" y="2205000"/>
            <a:ext cx="4249800" cy="4437000"/>
          </a:xfrm>
          <a:prstGeom prst="upArrowCallout">
            <a:avLst>
              <a:gd name="adj1" fmla="val 50005"/>
              <a:gd name="adj2" fmla="val 25000"/>
              <a:gd name="adj3" fmla="val 23534"/>
              <a:gd name="adj4" fmla="val 450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33" name="Picture 13" descr="до"/>
          <p:cNvPicPr/>
          <p:nvPr/>
        </p:nvPicPr>
        <p:blipFill>
          <a:blip r:embed="rId1"/>
          <a:stretch/>
        </p:blipFill>
        <p:spPr>
          <a:xfrm>
            <a:off x="5580000" y="3743280"/>
            <a:ext cx="2808360" cy="2328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1258920" y="1268640"/>
            <a:ext cx="67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химической посуде без этикеток находя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ь, алюминий, уксусная кислота и поваренная сол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 каким свойствам можно распознать эти вещества? Назовите наиболее характерный для их распознавания признак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555640" y="333360"/>
            <a:ext cx="38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адание № 2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36" name="Picture 6" descr="дддд"/>
          <p:cNvPicPr/>
          <p:nvPr/>
        </p:nvPicPr>
        <p:blipFill>
          <a:blip r:embed="rId1"/>
          <a:stretch/>
        </p:blipFill>
        <p:spPr>
          <a:xfrm>
            <a:off x="6516720" y="4076640"/>
            <a:ext cx="1434960" cy="2392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358920" y="3500280"/>
          <a:ext cx="8677080" cy="3078360"/>
        </p:xfrm>
        <a:graphic>
          <a:graphicData uri="http://schemas.openxmlformats.org/drawingml/2006/table">
            <a:tbl>
              <a:tblPr/>
              <a:tblGrid>
                <a:gridCol w="1454040"/>
                <a:gridCol w="1714320"/>
                <a:gridCol w="1081080"/>
                <a:gridCol w="1079640"/>
                <a:gridCol w="1379520"/>
                <a:gridCol w="19684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грегатное состоя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Ц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Зап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верд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астворимость в в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варенная с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итьевая с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сл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8" name="Text Box 255"/>
          <p:cNvSpPr/>
          <p:nvPr/>
        </p:nvSpPr>
        <p:spPr>
          <a:xfrm>
            <a:off x="971640" y="2602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Лабораторная работа № 1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9" name="Text Box 256"/>
          <p:cNvSpPr/>
          <p:nvPr/>
        </p:nvSpPr>
        <p:spPr>
          <a:xfrm>
            <a:off x="324000" y="1052640"/>
            <a:ext cx="828036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ма: «Рассмотрение веществ с различными физическими свойствами»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 справочники с физическими величинами, наборы веществ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од работы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"/>
              </a:rPr>
              <a:t>Химия </a:t>
            </a: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- это наука, которая изучает вещества и их превращ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Превращения веществ происходят в результате </a:t>
            </a:r>
            <a:r>
              <a:rPr b="1" lang="ru-RU" sz="3600" spc="-1" strike="noStrike">
                <a:solidFill>
                  <a:srgbClr val="0000ff"/>
                </a:solidFill>
                <a:latin typeface="comic"/>
              </a:rPr>
              <a:t>химических реак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6920" y="54936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Что такое химия?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 Все мы связываем с химической наукой дальнейший прогресс в познании окружающего нас мира, новые методы его преобразования и усовершенствования. И не может быть в наши дни специалиста, который сумел бы обойтись без знания хим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 Н. Семен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2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2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проект 2"/>
          <p:cNvPicPr/>
          <p:nvPr/>
        </p:nvPicPr>
        <p:blipFill>
          <a:blip r:embed="rId1"/>
          <a:stretch/>
        </p:blipFill>
        <p:spPr>
          <a:xfrm>
            <a:off x="395280" y="2492280"/>
            <a:ext cx="3095640" cy="29559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5"/>
          <p:cNvSpPr/>
          <p:nvPr/>
        </p:nvSpPr>
        <p:spPr>
          <a:xfrm>
            <a:off x="-32040" y="549360"/>
            <a:ext cx="89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Лаборант химического анализа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3924360" y="1700280"/>
            <a:ext cx="47530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Проводит химический и физико-химический анализ различных веществ: руд, нефти и нефтепродуктов, сталей различных марок, сплавов металлов, кислот, солей, необходимый для контроля соответствия продуктов технологического процесса и готовой продукции заданным нормам.</a:t>
            </a: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1506240" y="476280"/>
            <a:ext cx="56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Лаборант-аналитик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47" name="Picture 5" descr="проект 7"/>
          <p:cNvPicPr/>
          <p:nvPr/>
        </p:nvPicPr>
        <p:blipFill>
          <a:blip r:embed="rId1"/>
          <a:stretch/>
        </p:blipFill>
        <p:spPr>
          <a:xfrm>
            <a:off x="5724360" y="2060640"/>
            <a:ext cx="2608560" cy="33116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611280" y="1916280"/>
            <a:ext cx="360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Выполняет работы связанные с контролем качества сырья, реактивов, промежуточных продуктов, готовой продукции, отходов производства в различных отраслях экономики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"/>
          <p:cNvSpPr/>
          <p:nvPr/>
        </p:nvSpPr>
        <p:spPr>
          <a:xfrm>
            <a:off x="4564800" y="549360"/>
            <a:ext cx="29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Провизор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50" name="Picture 5" descr="проект 4"/>
          <p:cNvPicPr/>
          <p:nvPr/>
        </p:nvPicPr>
        <p:blipFill>
          <a:blip r:embed="rId1"/>
          <a:stretch/>
        </p:blipFill>
        <p:spPr>
          <a:xfrm>
            <a:off x="179280" y="333360"/>
            <a:ext cx="2305080" cy="3168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проект 5"/>
          <p:cNvPicPr/>
          <p:nvPr/>
        </p:nvPicPr>
        <p:blipFill>
          <a:blip r:embed="rId2"/>
          <a:stretch/>
        </p:blipFill>
        <p:spPr>
          <a:xfrm>
            <a:off x="1042920" y="3141720"/>
            <a:ext cx="2448000" cy="1727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MPj04067560000[1]"/>
          <p:cNvPicPr/>
          <p:nvPr/>
        </p:nvPicPr>
        <p:blipFill>
          <a:blip r:embed="rId3"/>
          <a:stretch/>
        </p:blipFill>
        <p:spPr>
          <a:xfrm>
            <a:off x="2700360" y="4653000"/>
            <a:ext cx="2448000" cy="19573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8"/>
          <p:cNvSpPr/>
          <p:nvPr/>
        </p:nvSpPr>
        <p:spPr>
          <a:xfrm>
            <a:off x="4356000" y="1773360"/>
            <a:ext cx="4321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Специалист с высшим фармацевтическим образованием, работающий в сфере производства, хранения, продажи лекарственных препаратов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836720" y="404640"/>
            <a:ext cx="57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Врач-инфекционист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55" name="Picture 5" descr="0000296689-preview"/>
          <p:cNvPicPr/>
          <p:nvPr/>
        </p:nvPicPr>
        <p:blipFill>
          <a:blip r:embed="rId1"/>
          <a:stretch/>
        </p:blipFill>
        <p:spPr>
          <a:xfrm>
            <a:off x="5940360" y="1989000"/>
            <a:ext cx="2565360" cy="35276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"/>
          <p:cNvSpPr/>
          <p:nvPr/>
        </p:nvSpPr>
        <p:spPr>
          <a:xfrm>
            <a:off x="395280" y="1700280"/>
            <a:ext cx="460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Специалист по инфекционным болезням. Изучает возникновение, механизмы развития и клинические проявления инфекционных болезней, вызываемых болезнетворными микроорганизмами, разрабатывает методы их лечения и профилактики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одежда5"/>
          <p:cNvPicPr/>
          <p:nvPr/>
        </p:nvPicPr>
        <p:blipFill>
          <a:blip r:embed="rId1"/>
          <a:stretch/>
        </p:blipFill>
        <p:spPr>
          <a:xfrm>
            <a:off x="2700360" y="4365720"/>
            <a:ext cx="129204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шмотки"/>
          <p:cNvPicPr/>
          <p:nvPr/>
        </p:nvPicPr>
        <p:blipFill>
          <a:blip r:embed="rId2"/>
          <a:stretch/>
        </p:blipFill>
        <p:spPr>
          <a:xfrm>
            <a:off x="6877080" y="333360"/>
            <a:ext cx="1987560" cy="284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шмотки3"/>
          <p:cNvPicPr/>
          <p:nvPr/>
        </p:nvPicPr>
        <p:blipFill>
          <a:blip r:embed="rId3"/>
          <a:stretch/>
        </p:blipFill>
        <p:spPr>
          <a:xfrm>
            <a:off x="6948360" y="3357720"/>
            <a:ext cx="1940040" cy="3244680"/>
          </a:xfrm>
          <a:prstGeom prst="rect">
            <a:avLst/>
          </a:prstGeom>
          <a:ln w="0">
            <a:noFill/>
          </a:ln>
        </p:spPr>
      </p:pic>
      <p:sp>
        <p:nvSpPr>
          <p:cNvPr id="66" name="WordArt 7"/>
          <p:cNvSpPr txBox="1"/>
          <p:nvPr/>
        </p:nvSpPr>
        <p:spPr>
          <a:xfrm>
            <a:off x="826920" y="260280"/>
            <a:ext cx="5497560" cy="15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до,  надо  одеваться !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Picture 8" descr="одежда2"/>
          <p:cNvPicPr/>
          <p:nvPr/>
        </p:nvPicPr>
        <p:blipFill>
          <a:blip r:embed="rId4"/>
          <a:stretch/>
        </p:blipFill>
        <p:spPr>
          <a:xfrm>
            <a:off x="539640" y="4221000"/>
            <a:ext cx="1222560" cy="2421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одежда4"/>
          <p:cNvPicPr/>
          <p:nvPr/>
        </p:nvPicPr>
        <p:blipFill>
          <a:blip r:embed="rId5"/>
          <a:stretch/>
        </p:blipFill>
        <p:spPr>
          <a:xfrm>
            <a:off x="5292720" y="4292640"/>
            <a:ext cx="126828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10"/>
          <p:cNvSpPr txBox="1"/>
          <p:nvPr/>
        </p:nvSpPr>
        <p:spPr>
          <a:xfrm>
            <a:off x="2484360" y="3573360"/>
            <a:ext cx="20401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прон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11"/>
          <p:cNvSpPr txBox="1"/>
          <p:nvPr/>
        </p:nvSpPr>
        <p:spPr>
          <a:xfrm>
            <a:off x="1476360" y="1916280"/>
            <a:ext cx="40798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цетатный шел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12"/>
          <p:cNvSpPr txBox="1"/>
          <p:nvPr/>
        </p:nvSpPr>
        <p:spPr>
          <a:xfrm>
            <a:off x="395280" y="2924280"/>
            <a:ext cx="17398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33cc"/>
                  </a:solidFill>
                  <a:miter/>
                </a:ln>
                <a:solidFill>
                  <a:srgbClr val="faf4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скоза</a:t>
            </a:r>
            <a:endParaRPr b="0" lang="en-US" sz="2800" spc="1" strike="noStrike">
              <a:ln w="19080">
                <a:solidFill>
                  <a:srgbClr val="ff33cc"/>
                </a:solidFill>
                <a:miter/>
              </a:ln>
              <a:solidFill>
                <a:srgbClr val="faf4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WordArt 13"/>
          <p:cNvSpPr txBox="1"/>
          <p:nvPr/>
        </p:nvSpPr>
        <p:spPr>
          <a:xfrm>
            <a:off x="3924360" y="2852640"/>
            <a:ext cx="25048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имплен</a:t>
            </a:r>
            <a:endParaRPr b="0" lang="en-US" sz="2800" spc="1" strike="noStrike">
              <a:ln w="19080">
                <a:solidFill>
                  <a:srgbClr val="009999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539640" y="105264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Технолог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58" name="Picture 5" descr="80m"/>
          <p:cNvPicPr/>
          <p:nvPr/>
        </p:nvPicPr>
        <p:blipFill>
          <a:blip r:embed="rId1"/>
          <a:stretch/>
        </p:blipFill>
        <p:spPr>
          <a:xfrm>
            <a:off x="395280" y="2421000"/>
            <a:ext cx="2844720" cy="28447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3492360" y="333360"/>
            <a:ext cx="5651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Лицо, организующее разработку и внедрение прогрессивных, экономически обоснованных, ресурсо- и природосберегающих технологических процессов и режимов производства выпускаемой предприятием продукции, выполнения работ (услуг), обеспечивающих повышение уровня технологической подготовки и технического перевооружения производства, сокращение расходов сырья, материалов, затрат труда, улучшение качества продукции, работ (услуг) и рост производительности труд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1908000" y="47628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2627280" y="1700280"/>
            <a:ext cx="5113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§ 1 (с. 5—6)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упр. 1—4 (с. 13)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62" name="Picture 6" descr="j0432665"/>
          <p:cNvPicPr/>
          <p:nvPr/>
        </p:nvPicPr>
        <p:blipFill>
          <a:blip r:embed="rId1"/>
          <a:stretch/>
        </p:blipFill>
        <p:spPr>
          <a:xfrm>
            <a:off x="611280" y="36306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index1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1403280" y="5300640"/>
            <a:ext cx="727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574560" y="404640"/>
            <a:ext cx="856944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ДОБРО ПОЖАЛОВАТЬ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 мир химических открытий и превращений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out" orient="vert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77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7" dur="77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9" dur="77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1" dur="77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77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6" dur="77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8" dur="77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0" dur="77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2"/>
          <p:cNvSpPr txBox="1"/>
          <p:nvPr/>
        </p:nvSpPr>
        <p:spPr>
          <a:xfrm>
            <a:off x="900000" y="40464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57240">
                  <a:solidFill>
                    <a:srgbClr val="ff33cc"/>
                  </a:solidFill>
                  <a:miter/>
                </a:ln>
                <a:solidFill>
                  <a:srgbClr val="f80c0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Тело надо умывать!</a:t>
            </a:r>
            <a:endParaRPr b="0" lang="en-US" sz="4400" spc="1" strike="noStrike">
              <a:ln w="57240">
                <a:solidFill>
                  <a:srgbClr val="ff33cc"/>
                </a:solidFill>
                <a:miter/>
              </a:ln>
              <a:solidFill>
                <a:srgbClr val="f80c0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703680" cy="3816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4"/>
          <p:cNvSpPr/>
          <p:nvPr/>
        </p:nvSpPr>
        <p:spPr>
          <a:xfrm>
            <a:off x="6659640" y="1628640"/>
            <a:ext cx="2209680" cy="15242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6588000" y="3500280"/>
            <a:ext cx="2362320" cy="914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6705720" y="4876920"/>
            <a:ext cx="243828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AutoShape 7"/>
          <p:cNvSpPr/>
          <p:nvPr/>
        </p:nvSpPr>
        <p:spPr>
          <a:xfrm flipH="1">
            <a:off x="304200" y="3124080"/>
            <a:ext cx="2819160" cy="1295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AutoShape 8"/>
          <p:cNvSpPr/>
          <p:nvPr/>
        </p:nvSpPr>
        <p:spPr>
          <a:xfrm flipH="1">
            <a:off x="323280" y="4869000"/>
            <a:ext cx="2819160" cy="1371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AutoShape 10"/>
          <p:cNvSpPr/>
          <p:nvPr/>
        </p:nvSpPr>
        <p:spPr>
          <a:xfrm flipH="1">
            <a:off x="468360" y="1484280"/>
            <a:ext cx="2819520" cy="1600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WordArt 11"/>
          <p:cNvSpPr txBox="1"/>
          <p:nvPr/>
        </p:nvSpPr>
        <p:spPr>
          <a:xfrm>
            <a:off x="611280" y="1844640"/>
            <a:ext cx="249552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33d57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зубная паста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33d57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WordArt 12"/>
          <p:cNvSpPr txBox="1"/>
          <p:nvPr/>
        </p:nvSpPr>
        <p:spPr>
          <a:xfrm>
            <a:off x="684360" y="3284640"/>
            <a:ext cx="175248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33d57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мыло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33d57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WordArt 13"/>
          <p:cNvSpPr txBox="1"/>
          <p:nvPr/>
        </p:nvSpPr>
        <p:spPr>
          <a:xfrm>
            <a:off x="628560" y="4876920"/>
            <a:ext cx="2028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33d57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косметика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33d57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6659640" y="1844640"/>
            <a:ext cx="2286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33d57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Стиральный 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33d57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33d57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порошок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33d57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WordArt 15"/>
          <p:cNvSpPr txBox="1"/>
          <p:nvPr/>
        </p:nvSpPr>
        <p:spPr>
          <a:xfrm>
            <a:off x="6659640" y="3500280"/>
            <a:ext cx="220968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33d57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шампунь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33d57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16"/>
          <p:cNvSpPr txBox="1"/>
          <p:nvPr/>
        </p:nvSpPr>
        <p:spPr>
          <a:xfrm>
            <a:off x="7134120" y="4938840"/>
            <a:ext cx="170496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33d57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гель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33d57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1187280" y="333360"/>
            <a:ext cx="6934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33d57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ело надо кормить!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f33d57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3" descr="бобы"/>
          <p:cNvPicPr/>
          <p:nvPr/>
        </p:nvPicPr>
        <p:blipFill>
          <a:blip r:embed="rId1"/>
          <a:stretch/>
        </p:blipFill>
        <p:spPr>
          <a:xfrm>
            <a:off x="3851280" y="2133720"/>
            <a:ext cx="2031840" cy="1549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горох"/>
          <p:cNvPicPr/>
          <p:nvPr/>
        </p:nvPicPr>
        <p:blipFill>
          <a:blip r:embed="rId2"/>
          <a:stretch/>
        </p:blipFill>
        <p:spPr>
          <a:xfrm>
            <a:off x="1619280" y="3357720"/>
            <a:ext cx="2539800" cy="163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капуста"/>
          <p:cNvPicPr/>
          <p:nvPr/>
        </p:nvPicPr>
        <p:blipFill>
          <a:blip r:embed="rId3"/>
          <a:stretch/>
        </p:blipFill>
        <p:spPr>
          <a:xfrm>
            <a:off x="2050920" y="4869000"/>
            <a:ext cx="1905120" cy="1717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кукуруза"/>
          <p:cNvPicPr/>
          <p:nvPr/>
        </p:nvPicPr>
        <p:blipFill>
          <a:blip r:embed="rId4"/>
          <a:stretch/>
        </p:blipFill>
        <p:spPr>
          <a:xfrm>
            <a:off x="3564000" y="4941720"/>
            <a:ext cx="2028600" cy="1441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огурец"/>
          <p:cNvPicPr/>
          <p:nvPr/>
        </p:nvPicPr>
        <p:blipFill>
          <a:blip r:embed="rId5"/>
          <a:stretch/>
        </p:blipFill>
        <p:spPr>
          <a:xfrm>
            <a:off x="3995640" y="3645000"/>
            <a:ext cx="2008440" cy="172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морковь"/>
          <p:cNvPicPr/>
          <p:nvPr/>
        </p:nvPicPr>
        <p:blipFill>
          <a:blip r:embed="rId6"/>
          <a:stretch/>
        </p:blipFill>
        <p:spPr>
          <a:xfrm>
            <a:off x="250920" y="3357720"/>
            <a:ext cx="1676160" cy="154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томат"/>
          <p:cNvPicPr/>
          <p:nvPr/>
        </p:nvPicPr>
        <p:blipFill>
          <a:blip r:embed="rId7"/>
          <a:stretch/>
        </p:blipFill>
        <p:spPr>
          <a:xfrm>
            <a:off x="250920" y="4869000"/>
            <a:ext cx="1828800" cy="1717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арбуз"/>
          <p:cNvPicPr/>
          <p:nvPr/>
        </p:nvPicPr>
        <p:blipFill>
          <a:blip r:embed="rId8"/>
          <a:stretch/>
        </p:blipFill>
        <p:spPr>
          <a:xfrm>
            <a:off x="2627280" y="1413000"/>
            <a:ext cx="1828800" cy="2025360"/>
          </a:xfrm>
          <a:prstGeom prst="rect">
            <a:avLst/>
          </a:prstGeom>
          <a:ln w="0">
            <a:noFill/>
          </a:ln>
        </p:spPr>
      </p:pic>
      <p:sp>
        <p:nvSpPr>
          <p:cNvPr id="96" name="WordArt 11"/>
          <p:cNvSpPr txBox="1"/>
          <p:nvPr/>
        </p:nvSpPr>
        <p:spPr>
          <a:xfrm>
            <a:off x="5364000" y="1484280"/>
            <a:ext cx="350532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4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33d57"/>
                  </a:solidFill>
                  <a:miter/>
                </a:ln>
                <a:solidFill>
                  <a:srgbClr val="faf4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белки</a:t>
            </a:r>
            <a:endParaRPr b="0" lang="en-US" sz="2400" spc="1" strike="noStrike">
              <a:ln w="38160">
                <a:solidFill>
                  <a:srgbClr val="f33d57"/>
                </a:solidFill>
                <a:miter/>
              </a:ln>
              <a:solidFill>
                <a:srgbClr val="faf4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WordArt 12"/>
          <p:cNvSpPr txBox="1"/>
          <p:nvPr/>
        </p:nvSpPr>
        <p:spPr>
          <a:xfrm>
            <a:off x="6119640" y="3716280"/>
            <a:ext cx="302436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38160">
                  <a:solidFill>
                    <a:srgbClr val="5c3ef2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жиры</a:t>
            </a:r>
            <a:endParaRPr b="0" lang="en-US" sz="2800" spc="1" strike="noStrike">
              <a:ln w="38160">
                <a:solidFill>
                  <a:srgbClr val="5c3ef2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13"/>
          <p:cNvSpPr txBox="1"/>
          <p:nvPr/>
        </p:nvSpPr>
        <p:spPr>
          <a:xfrm>
            <a:off x="6443640" y="2276640"/>
            <a:ext cx="227340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99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глеводы</a:t>
            </a:r>
            <a:endParaRPr b="0" lang="en-US" sz="2400" spc="1" strike="noStrike">
              <a:ln w="28440">
                <a:solidFill>
                  <a:srgbClr val="0099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14"/>
          <p:cNvSpPr txBox="1"/>
          <p:nvPr/>
        </p:nvSpPr>
        <p:spPr>
          <a:xfrm>
            <a:off x="6372360" y="4941720"/>
            <a:ext cx="2273040" cy="110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витамины</a:t>
            </a:r>
            <a:endParaRPr b="0" lang="en-US" sz="2400" spc="1" strike="noStrike">
              <a:ln w="9360">
                <a:solidFill>
                  <a:srgbClr val="66ffff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pic>
        <p:nvPicPr>
          <p:cNvPr id="100" name="Picture 15" descr="рис,творог и яйца"/>
          <p:cNvPicPr/>
          <p:nvPr/>
        </p:nvPicPr>
        <p:blipFill>
          <a:blip r:embed="rId9"/>
          <a:stretch/>
        </p:blipFill>
        <p:spPr>
          <a:xfrm>
            <a:off x="395280" y="162864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6"/>
          <p:cNvSpPr txBox="1"/>
          <p:nvPr/>
        </p:nvSpPr>
        <p:spPr>
          <a:xfrm>
            <a:off x="6948360" y="5950080"/>
            <a:ext cx="1219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 т.д..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6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619280" y="189000"/>
            <a:ext cx="6053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2320">
                  <a:solidFill>
                    <a:srgbClr val="00ff00"/>
                  </a:solidFill>
                  <a:miter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А  медицина?</a:t>
            </a:r>
            <a:endParaRPr b="0" lang="en-US" sz="4400" spc="1" strike="noStrike">
              <a:ln w="22320">
                <a:solidFill>
                  <a:srgbClr val="00ff00"/>
                </a:solidFill>
                <a:miter/>
              </a:ln>
              <a:solidFill>
                <a:srgbClr val="cc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Picture 4" descr="медицина3"/>
          <p:cNvPicPr/>
          <p:nvPr/>
        </p:nvPicPr>
        <p:blipFill>
          <a:blip r:embed="rId1"/>
          <a:stretch/>
        </p:blipFill>
        <p:spPr>
          <a:xfrm>
            <a:off x="6084720" y="3141720"/>
            <a:ext cx="1987560" cy="1565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медицина4"/>
          <p:cNvPicPr/>
          <p:nvPr/>
        </p:nvPicPr>
        <p:blipFill>
          <a:blip r:embed="rId2"/>
          <a:stretch/>
        </p:blipFill>
        <p:spPr>
          <a:xfrm>
            <a:off x="3276720" y="3213000"/>
            <a:ext cx="1542960" cy="2641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диагностика глазного лна"/>
          <p:cNvPicPr/>
          <p:nvPr/>
        </p:nvPicPr>
        <p:blipFill>
          <a:blip r:embed="rId3"/>
          <a:stretch/>
        </p:blipFill>
        <p:spPr>
          <a:xfrm>
            <a:off x="755640" y="4869000"/>
            <a:ext cx="1674720" cy="1225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2987640" y="6165720"/>
            <a:ext cx="2592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дприбо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1240" y="6165720"/>
            <a:ext cx="27561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ечение  опухолей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50920" y="3789360"/>
            <a:ext cx="26636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дикаменты, наркоз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1692360" y="1341360"/>
            <a:ext cx="604836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Чем  лечиться - лучше  не  болеть!</a:t>
            </a:r>
            <a:endParaRPr b="0" lang="en-US" sz="3200" spc="1" strike="noStrike">
              <a:ln w="9360">
                <a:solidFill>
                  <a:srgbClr val="00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8101080" y="1413000"/>
            <a:ext cx="795240" cy="2736720"/>
          </a:xfrm>
          <a:custGeom>
            <a:avLst/>
            <a:gdLst>
              <a:gd name="textAreaLeft" fmla="*/ 106560 w 795240"/>
              <a:gd name="textAreaRight" fmla="*/ 688680 w 795240"/>
              <a:gd name="textAreaTop" fmla="*/ 478800 h 2736720"/>
              <a:gd name="textAreaBottom" fmla="*/ 198432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1" name="AutoShape 13"/>
          <p:cNvSpPr/>
          <p:nvPr/>
        </p:nvSpPr>
        <p:spPr>
          <a:xfrm flipH="1">
            <a:off x="5218920" y="2060640"/>
            <a:ext cx="792360" cy="3384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522360 h 3384360"/>
              <a:gd name="textAreaBottom" fmla="*/ 2523240 h 33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2468308"/>
                <a:lnTo>
                  <a:pt x="7200" y="21218"/>
                </a:lnTo>
                <a:lnTo>
                  <a:pt x="0" y="16391"/>
                </a:lnTo>
                <a:lnTo>
                  <a:pt x="7200" y="10800"/>
                </a:lnTo>
                <a:lnTo>
                  <a:pt x="7200" y="12960"/>
                </a:lnTo>
                <a:arcTo wR="21600" hR="6671" stAng="2468308" swAng="-1927237"/>
                <a:lnTo>
                  <a:pt x="19212" y="9720"/>
                </a:lnTo>
                <a:arcTo wR="21600" hR="6671" stAng="-541071" swAng="-4858929"/>
                <a:close/>
              </a:path>
              <a:path fill="darkenLess"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-541071"/>
                <a:lnTo>
                  <a:pt x="19212" y="9720"/>
                </a:lnTo>
                <a:arcTo wR="21600" hR="6671" stAng="-541071" swAng="-48589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Line 14"/>
          <p:cNvSpPr/>
          <p:nvPr/>
        </p:nvSpPr>
        <p:spPr>
          <a:xfrm flipH="1">
            <a:off x="2627280" y="2133720"/>
            <a:ext cx="504720" cy="7920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3564000" y="2133720"/>
            <a:ext cx="403200" cy="1055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4" name="Picture 17" descr="медицина2"/>
          <p:cNvPicPr/>
          <p:nvPr/>
        </p:nvPicPr>
        <p:blipFill>
          <a:blip r:embed="rId4"/>
          <a:stretch/>
        </p:blipFill>
        <p:spPr>
          <a:xfrm>
            <a:off x="6156360" y="4941720"/>
            <a:ext cx="1944720" cy="1579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BD06493_"/>
          <p:cNvPicPr/>
          <p:nvPr/>
        </p:nvPicPr>
        <p:blipFill>
          <a:blip r:embed="rId5"/>
          <a:stretch/>
        </p:blipFill>
        <p:spPr>
          <a:xfrm>
            <a:off x="468360" y="2349360"/>
            <a:ext cx="2087640" cy="1222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9"/>
          <p:cNvSpPr/>
          <p:nvPr/>
        </p:nvSpPr>
        <p:spPr>
          <a:xfrm>
            <a:off x="611280" y="4292640"/>
            <a:ext cx="230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6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Домик на Богатяновском спуске (деревянный0"/>
          <p:cNvPicPr/>
          <p:nvPr/>
        </p:nvPicPr>
        <p:blipFill>
          <a:blip r:embed="rId1"/>
          <a:stretch/>
        </p:blipFill>
        <p:spPr>
          <a:xfrm>
            <a:off x="7164360" y="2708280"/>
            <a:ext cx="1714680" cy="203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здание из кирпича"/>
          <p:cNvPicPr/>
          <p:nvPr/>
        </p:nvPicPr>
        <p:blipFill>
          <a:blip r:embed="rId2"/>
          <a:stretch/>
        </p:blipFill>
        <p:spPr>
          <a:xfrm>
            <a:off x="5580000" y="4941720"/>
            <a:ext cx="1905120" cy="1719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Особняк"/>
          <p:cNvPicPr/>
          <p:nvPr/>
        </p:nvPicPr>
        <p:blipFill>
          <a:blip r:embed="rId3"/>
          <a:stretch/>
        </p:blipFill>
        <p:spPr>
          <a:xfrm>
            <a:off x="1116000" y="4869000"/>
            <a:ext cx="1714680" cy="1719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Публичная библиотека"/>
          <p:cNvPicPr/>
          <p:nvPr/>
        </p:nvPicPr>
        <p:blipFill>
          <a:blip r:embed="rId4"/>
          <a:stretch/>
        </p:blipFill>
        <p:spPr>
          <a:xfrm>
            <a:off x="250920" y="2565360"/>
            <a:ext cx="1387440" cy="2036880"/>
          </a:xfrm>
          <a:prstGeom prst="rect">
            <a:avLst/>
          </a:prstGeom>
          <a:ln w="0">
            <a:noFill/>
          </a:ln>
        </p:spPr>
      </p:pic>
      <p:sp>
        <p:nvSpPr>
          <p:cNvPr id="121" name="WordArt 6"/>
          <p:cNvSpPr txBox="1"/>
          <p:nvPr/>
        </p:nvSpPr>
        <p:spPr>
          <a:xfrm>
            <a:off x="1066680" y="304920"/>
            <a:ext cx="6934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  в  котором  мы  живем...</a:t>
            </a:r>
            <a:endParaRPr b="0" lang="en-US" sz="4400" spc="1" strike="noStrike">
              <a:ln w="1908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1547640" y="1413000"/>
            <a:ext cx="3129120" cy="1630080"/>
          </a:xfrm>
          <a:prstGeom prst="wedgeRoundRectCallout">
            <a:avLst>
              <a:gd name="adj1" fmla="val -45027"/>
              <a:gd name="adj2" fmla="val 71810"/>
              <a:gd name="adj3" fmla="val 16667"/>
            </a:avLst>
          </a:prstGeom>
          <a:solidFill>
            <a:srgbClr val="ffff99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ЕТОН, ЖЕЛЕЗОБЕТОН СТЕКЛО, МЕТАЛЛ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2843280" y="3284640"/>
            <a:ext cx="3429000" cy="1577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WordArt 12"/>
          <p:cNvSpPr txBox="1"/>
          <p:nvPr/>
        </p:nvSpPr>
        <p:spPr>
          <a:xfrm>
            <a:off x="3132000" y="3573360"/>
            <a:ext cx="304812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кирпич, краска, </a:t>
            </a:r>
            <a:endParaRPr b="0" lang="en-US" sz="2800" spc="1" strike="noStrike">
              <a:ln w="12600">
                <a:solidFill>
                  <a:srgbClr val="3366ff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асбест, рубероид...</a:t>
            </a:r>
            <a:endParaRPr b="0" lang="en-US" sz="2800" spc="1" strike="noStrike">
              <a:ln w="12600">
                <a:solidFill>
                  <a:srgbClr val="3366ff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AutoShape 13"/>
          <p:cNvSpPr/>
          <p:nvPr/>
        </p:nvSpPr>
        <p:spPr>
          <a:xfrm flipH="1">
            <a:off x="5292720" y="1413000"/>
            <a:ext cx="3029040" cy="1247760"/>
          </a:xfrm>
          <a:prstGeom prst="wedgeRoundRectCallout">
            <a:avLst>
              <a:gd name="adj1" fmla="val 5763"/>
              <a:gd name="adj2" fmla="val 119208"/>
              <a:gd name="adj3" fmla="val 16667"/>
            </a:avLst>
          </a:prstGeom>
          <a:solidFill>
            <a:srgbClr val="ffff9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6" name="WordArt 14"/>
          <p:cNvSpPr txBox="1"/>
          <p:nvPr/>
        </p:nvSpPr>
        <p:spPr>
          <a:xfrm>
            <a:off x="5364000" y="1557360"/>
            <a:ext cx="3048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олифа, вар, 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3366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огнеупорная  пропитка, гвозди,  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3366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инструменты...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3366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914400" y="304920"/>
            <a:ext cx="74674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99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   бытовая   техника?</a:t>
            </a:r>
            <a:endParaRPr b="0" lang="en-US" sz="4400" spc="1" strike="noStrike">
              <a:ln w="12600">
                <a:solidFill>
                  <a:srgbClr val="3366ff"/>
                </a:solidFill>
                <a:miter/>
              </a:ln>
              <a:solidFill>
                <a:srgbClr val="0099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3" descr="видеокамера"/>
          <p:cNvPicPr/>
          <p:nvPr/>
        </p:nvPicPr>
        <p:blipFill>
          <a:blip r:embed="rId1"/>
          <a:stretch/>
        </p:blipFill>
        <p:spPr>
          <a:xfrm>
            <a:off x="7291440" y="1676520"/>
            <a:ext cx="147960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жк-монитор"/>
          <p:cNvPicPr/>
          <p:nvPr/>
        </p:nvPicPr>
        <p:blipFill>
          <a:blip r:embed="rId2"/>
          <a:stretch/>
        </p:blipFill>
        <p:spPr>
          <a:xfrm>
            <a:off x="7459560" y="3954600"/>
            <a:ext cx="1578240" cy="1108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магнитофон"/>
          <p:cNvPicPr/>
          <p:nvPr/>
        </p:nvPicPr>
        <p:blipFill>
          <a:blip r:embed="rId3"/>
          <a:stretch/>
        </p:blipFill>
        <p:spPr>
          <a:xfrm>
            <a:off x="7377120" y="2884320"/>
            <a:ext cx="1660680" cy="935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микроволновка"/>
          <p:cNvPicPr/>
          <p:nvPr/>
        </p:nvPicPr>
        <p:blipFill>
          <a:blip r:embed="rId4"/>
          <a:stretch/>
        </p:blipFill>
        <p:spPr>
          <a:xfrm>
            <a:off x="1828800" y="4145040"/>
            <a:ext cx="1692360" cy="1085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плазменный телевизор"/>
          <p:cNvPicPr/>
          <p:nvPr/>
        </p:nvPicPr>
        <p:blipFill>
          <a:blip r:embed="rId5"/>
          <a:stretch/>
        </p:blipFill>
        <p:spPr>
          <a:xfrm>
            <a:off x="5181480" y="5576760"/>
            <a:ext cx="1692360" cy="1168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монитор"/>
          <p:cNvPicPr/>
          <p:nvPr/>
        </p:nvPicPr>
        <p:blipFill>
          <a:blip r:embed="rId6"/>
          <a:stretch/>
        </p:blipFill>
        <p:spPr>
          <a:xfrm>
            <a:off x="6888240" y="5427720"/>
            <a:ext cx="1523880" cy="136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плейер"/>
          <p:cNvPicPr/>
          <p:nvPr/>
        </p:nvPicPr>
        <p:blipFill>
          <a:blip r:embed="rId7"/>
          <a:stretch/>
        </p:blipFill>
        <p:spPr>
          <a:xfrm>
            <a:off x="304920" y="4508640"/>
            <a:ext cx="1371600" cy="952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проектор"/>
          <p:cNvPicPr/>
          <p:nvPr/>
        </p:nvPicPr>
        <p:blipFill>
          <a:blip r:embed="rId8"/>
          <a:stretch/>
        </p:blipFill>
        <p:spPr>
          <a:xfrm>
            <a:off x="152280" y="3117960"/>
            <a:ext cx="1524240" cy="1168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пылесос"/>
          <p:cNvPicPr/>
          <p:nvPr/>
        </p:nvPicPr>
        <p:blipFill>
          <a:blip r:embed="rId9"/>
          <a:stretch/>
        </p:blipFill>
        <p:spPr>
          <a:xfrm>
            <a:off x="228600" y="1935000"/>
            <a:ext cx="1600200" cy="1127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сотовый телефон"/>
          <p:cNvPicPr/>
          <p:nvPr/>
        </p:nvPicPr>
        <p:blipFill>
          <a:blip r:embed="rId10"/>
          <a:stretch/>
        </p:blipFill>
        <p:spPr>
          <a:xfrm>
            <a:off x="304920" y="5576760"/>
            <a:ext cx="1371600" cy="1257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телевизор"/>
          <p:cNvPicPr/>
          <p:nvPr/>
        </p:nvPicPr>
        <p:blipFill>
          <a:blip r:embed="rId11"/>
          <a:stretch/>
        </p:blipFill>
        <p:spPr>
          <a:xfrm>
            <a:off x="1828800" y="5460840"/>
            <a:ext cx="1844640" cy="1373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чайник"/>
          <p:cNvPicPr/>
          <p:nvPr/>
        </p:nvPicPr>
        <p:blipFill>
          <a:blip r:embed="rId12"/>
          <a:stretch/>
        </p:blipFill>
        <p:spPr>
          <a:xfrm>
            <a:off x="1828800" y="2819520"/>
            <a:ext cx="1371600" cy="125712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5"/>
          <p:cNvSpPr/>
          <p:nvPr/>
        </p:nvSpPr>
        <p:spPr>
          <a:xfrm>
            <a:off x="1835280" y="1341360"/>
            <a:ext cx="2514600" cy="13543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WordArt 16"/>
          <p:cNvSpPr txBox="1"/>
          <p:nvPr/>
        </p:nvSpPr>
        <p:spPr>
          <a:xfrm>
            <a:off x="2124000" y="1700280"/>
            <a:ext cx="219384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таллы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AutoShape 17"/>
          <p:cNvSpPr/>
          <p:nvPr/>
        </p:nvSpPr>
        <p:spPr>
          <a:xfrm>
            <a:off x="3003480" y="2819520"/>
            <a:ext cx="2210040" cy="1466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WordArt 18"/>
          <p:cNvSpPr txBox="1"/>
          <p:nvPr/>
        </p:nvSpPr>
        <p:spPr>
          <a:xfrm>
            <a:off x="3276720" y="3141720"/>
            <a:ext cx="1873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лавы</a:t>
            </a:r>
            <a:endParaRPr b="0" lang="en-US" sz="2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AutoShape 19"/>
          <p:cNvSpPr/>
          <p:nvPr/>
        </p:nvSpPr>
        <p:spPr>
          <a:xfrm flipH="1">
            <a:off x="4579920" y="1698480"/>
            <a:ext cx="2743200" cy="1185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WordArt 20"/>
          <p:cNvSpPr txBox="1"/>
          <p:nvPr/>
        </p:nvSpPr>
        <p:spPr>
          <a:xfrm>
            <a:off x="4859280" y="1989000"/>
            <a:ext cx="20113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лимеры</a:t>
            </a:r>
            <a:endParaRPr b="0" lang="en-US" sz="2800" spc="1" strike="noStrike">
              <a:ln w="9360">
                <a:solidFill>
                  <a:srgbClr val="00ff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AutoShape 21"/>
          <p:cNvSpPr/>
          <p:nvPr/>
        </p:nvSpPr>
        <p:spPr>
          <a:xfrm flipH="1">
            <a:off x="4579920" y="3718080"/>
            <a:ext cx="2797200" cy="1709640"/>
          </a:xfrm>
          <a:prstGeom prst="cloudCallout">
            <a:avLst>
              <a:gd name="adj1" fmla="val -42569"/>
              <a:gd name="adj2" fmla="val 660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7" name="WordArt 22"/>
          <p:cNvSpPr txBox="1"/>
          <p:nvPr/>
        </p:nvSpPr>
        <p:spPr>
          <a:xfrm>
            <a:off x="4754520" y="4145040"/>
            <a:ext cx="2438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лупроводники</a:t>
            </a:r>
            <a:endParaRPr b="0" lang="en-US" sz="2800" spc="1" strike="noStrike">
              <a:ln w="9360">
                <a:solidFill>
                  <a:srgbClr val="cc0000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143000" y="304920"/>
            <a:ext cx="7162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  конечно,  транспорт...</a:t>
            </a:r>
            <a:endParaRPr b="0" lang="en-US" sz="4400" spc="1" strike="noStrike">
              <a:ln w="28440">
                <a:solidFill>
                  <a:srgbClr val="ff0066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9" name="Picture 3" descr="автобус"/>
          <p:cNvPicPr/>
          <p:nvPr/>
        </p:nvPicPr>
        <p:blipFill>
          <a:blip r:embed="rId1"/>
          <a:stretch/>
        </p:blipFill>
        <p:spPr>
          <a:xfrm>
            <a:off x="7429680" y="3252960"/>
            <a:ext cx="1714320" cy="1037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автомобиль"/>
          <p:cNvPicPr/>
          <p:nvPr/>
        </p:nvPicPr>
        <p:blipFill>
          <a:blip r:embed="rId2"/>
          <a:stretch/>
        </p:blipFill>
        <p:spPr>
          <a:xfrm>
            <a:off x="7429680" y="201924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автомобиль2"/>
          <p:cNvPicPr/>
          <p:nvPr/>
        </p:nvPicPr>
        <p:blipFill>
          <a:blip r:embed="rId3"/>
          <a:stretch/>
        </p:blipFill>
        <p:spPr>
          <a:xfrm>
            <a:off x="7429680" y="438300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автомобиль3"/>
          <p:cNvPicPr/>
          <p:nvPr/>
        </p:nvPicPr>
        <p:blipFill>
          <a:blip r:embed="rId4"/>
          <a:stretch/>
        </p:blipFill>
        <p:spPr>
          <a:xfrm>
            <a:off x="0" y="447048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автомобиль4"/>
          <p:cNvPicPr/>
          <p:nvPr/>
        </p:nvPicPr>
        <p:blipFill>
          <a:blip r:embed="rId5"/>
          <a:stretch/>
        </p:blipFill>
        <p:spPr>
          <a:xfrm>
            <a:off x="3205080" y="57150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корабль на реке"/>
          <p:cNvPicPr/>
          <p:nvPr/>
        </p:nvPicPr>
        <p:blipFill>
          <a:blip r:embed="rId6"/>
          <a:stretch/>
        </p:blipFill>
        <p:spPr>
          <a:xfrm>
            <a:off x="1714680" y="5715000"/>
            <a:ext cx="1560240" cy="1143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легковой автомобиль"/>
          <p:cNvPicPr/>
          <p:nvPr/>
        </p:nvPicPr>
        <p:blipFill>
          <a:blip r:embed="rId7"/>
          <a:stretch/>
        </p:blipFill>
        <p:spPr>
          <a:xfrm>
            <a:off x="-4680" y="3376440"/>
            <a:ext cx="1714320" cy="1028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мотоцикл"/>
          <p:cNvPicPr/>
          <p:nvPr/>
        </p:nvPicPr>
        <p:blipFill>
          <a:blip r:embed="rId8"/>
          <a:stretch/>
        </p:blipFill>
        <p:spPr>
          <a:xfrm>
            <a:off x="-4680" y="1914480"/>
            <a:ext cx="2295360" cy="1362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мотоциклы"/>
          <p:cNvPicPr/>
          <p:nvPr/>
        </p:nvPicPr>
        <p:blipFill>
          <a:blip r:embed="rId9"/>
          <a:stretch/>
        </p:blipFill>
        <p:spPr>
          <a:xfrm>
            <a:off x="0" y="57150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трамвай"/>
          <p:cNvPicPr/>
          <p:nvPr/>
        </p:nvPicPr>
        <p:blipFill>
          <a:blip r:embed="rId10"/>
          <a:stretch/>
        </p:blipFill>
        <p:spPr>
          <a:xfrm>
            <a:off x="4919760" y="5613480"/>
            <a:ext cx="1879560" cy="1244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тролейбус"/>
          <p:cNvPicPr/>
          <p:nvPr/>
        </p:nvPicPr>
        <p:blipFill>
          <a:blip r:embed="rId11"/>
          <a:stretch/>
        </p:blipFill>
        <p:spPr>
          <a:xfrm>
            <a:off x="6799320" y="5526000"/>
            <a:ext cx="1619280" cy="1332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14"/>
          <p:cNvSpPr txBox="1"/>
          <p:nvPr/>
        </p:nvSpPr>
        <p:spPr>
          <a:xfrm>
            <a:off x="2484360" y="1916280"/>
            <a:ext cx="45658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  здесь  химия -</a:t>
            </a:r>
            <a:endParaRPr b="0" lang="en-US" sz="28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WordArt 15"/>
          <p:cNvSpPr txBox="1"/>
          <p:nvPr/>
        </p:nvSpPr>
        <p:spPr>
          <a:xfrm>
            <a:off x="2664000" y="2733840"/>
            <a:ext cx="21762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аллы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WordArt 16"/>
          <p:cNvSpPr txBox="1"/>
          <p:nvPr/>
        </p:nvSpPr>
        <p:spPr>
          <a:xfrm>
            <a:off x="4840200" y="3954600"/>
            <a:ext cx="20653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нзин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17"/>
          <p:cNvSpPr txBox="1"/>
          <p:nvPr/>
        </p:nvSpPr>
        <p:spPr>
          <a:xfrm>
            <a:off x="1792440" y="3862440"/>
            <a:ext cx="2269800" cy="6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еросин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WordArt 18"/>
          <p:cNvSpPr txBox="1"/>
          <p:nvPr/>
        </p:nvSpPr>
        <p:spPr>
          <a:xfrm>
            <a:off x="5329080" y="2733840"/>
            <a:ext cx="157644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зут</a:t>
            </a:r>
            <a:endParaRPr b="0" lang="en-US" sz="2800" spc="1" strike="noStrike">
              <a:ln w="12600">
                <a:solidFill>
                  <a:srgbClr val="ff0066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WordArt 19"/>
          <p:cNvSpPr txBox="1"/>
          <p:nvPr/>
        </p:nvSpPr>
        <p:spPr>
          <a:xfrm>
            <a:off x="5329080" y="4659480"/>
            <a:ext cx="192888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солярка</a:t>
            </a:r>
            <a:endParaRPr b="0" lang="en-US" sz="2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WordArt 20"/>
          <p:cNvSpPr txBox="1"/>
          <p:nvPr/>
        </p:nvSpPr>
        <p:spPr>
          <a:xfrm>
            <a:off x="1792440" y="4754520"/>
            <a:ext cx="304776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Arial"/>
              </a:rPr>
              <a:t>лаки и крас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0"/>
                            </p:stCondLst>
                            <p:childTnLst>
                              <p:par>
                                <p:cTn id="4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4:06:19Z</dcterms:created>
  <dc:creator>User</dc:creator>
  <dc:description/>
  <dc:language>en-US</dc:language>
  <cp:lastModifiedBy>anatolevna</cp:lastModifiedBy>
  <dcterms:modified xsi:type="dcterms:W3CDTF">2010-09-23T08:52:35Z</dcterms:modified>
  <cp:revision>28</cp:revision>
  <dc:subject/>
  <dc:title>Слайд 1</dc:title>
</cp:coreProperties>
</file>